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8973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2AA-B426-4DCF-B4C9-43EBD7B9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8B1-B741-4A46-8047-05E87812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4E4-8A81-4286-B7C6-E60643E4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B55-B8EC-4B8A-8D43-610B0943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2751-4DE7-4923-A6EA-30AC4C9E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9324-F1A2-4502-BB50-1EA55B2F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E71C-C0F4-4C59-84DC-715E6E9F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0CB2-0477-407A-A5FF-A2534269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4D31-F184-45D5-9EB6-582B0C6E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7108-80CB-42BB-A96A-3C583F8F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4749-FE1B-4F6F-AD07-56F36BF5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7B4-4269-4809-B8A6-FFAA2732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F973-CAB1-4995-9CF9-3A3C0506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B82C-B911-443E-9238-2C4054AE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590D-5205-4DE9-86F4-F53C1A2F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DBD1-4AC5-4C73-BB31-56C881BE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A878-F807-4FDF-BCA4-1C6EE41C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F96-BBDC-4C44-9BD1-A3E03CAC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158-8797-421F-9338-66FE4553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5267-C160-42D5-A554-D24EBB85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B0B-67A9-45C1-8184-FDFFC0EA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E98-EBCF-444A-9D40-BEC47CAD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6F8-5F89-42E0-B93E-E12097C2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DC7-86D1-43B6-AB5C-D9BF7193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7C37-23A5-40B0-B94B-CB13367C757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1D14-DAD1-47E6-9A7E-81A88F8BADA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F0B2-8ECF-449C-BA61-DAA2DEE85AC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8859-4F49-478A-B378-CAA45915794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181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000000"/>
                </a:solidFill>
                <a:latin typeface="Calibri"/>
              </a:rPr>
              <a:t>Elementos visuais na comunicação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rcRect l="0" t="0" r="0" b="7628"/>
          <a:stretch/>
        </p:blipFill>
        <p:spPr>
          <a:xfrm>
            <a:off x="1371600" y="366840"/>
            <a:ext cx="6477120" cy="4681440"/>
          </a:xfrm>
          <a:prstGeom prst="rect">
            <a:avLst/>
          </a:prstGeom>
          <a:ln w="0">
            <a:noFill/>
          </a:ln>
        </p:spPr>
      </p:pic>
      <p:sp>
        <p:nvSpPr>
          <p:cNvPr id="84" name="Rectângulo 8"/>
          <p:cNvSpPr/>
          <p:nvPr/>
        </p:nvSpPr>
        <p:spPr>
          <a:xfrm>
            <a:off x="5304960" y="5049720"/>
            <a:ext cx="263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Black Cloud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(2007), de Carlos Amorales</a:t>
            </a:r>
            <a:r>
              <a:rPr b="0" i="1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Marcador de Posição do Número do Diapositivo 8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8A74-0307-499A-8190-91795E12BE18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O ponto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81280" y="561816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000000"/>
                </a:solidFill>
                <a:latin typeface="Calibri"/>
              </a:rPr>
              <a:t>Bleu III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(1961), de Joan Miró. Óleo s/ tela. Museo Nacional de Arte Moderno, Centro George Pompidou. París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aixaDeTexto 12"/>
          <p:cNvSpPr/>
          <p:nvPr/>
        </p:nvSpPr>
        <p:spPr>
          <a:xfrm>
            <a:off x="457200" y="12952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O ponto é a forma mais simples, mas nem por isso com menos forç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119400" y="1509840"/>
            <a:ext cx="5491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Marcador de Posição do Número do Diapositivo 8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7E1F-2B0A-41CF-A8C1-1F12B0F3BE79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aixaDeTexto 12"/>
          <p:cNvSpPr/>
          <p:nvPr/>
        </p:nvSpPr>
        <p:spPr>
          <a:xfrm>
            <a:off x="380880" y="1295280"/>
            <a:ext cx="3505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Uma linha reta pode transmitir tranquilidade, solidez ou serenidad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Se é curva, pode transmitir doçura, graciosidade,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alegria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3.bp.blogspot.com/-04J_hkTgb_c/ThBWnK1IMYI/AAAAAAAALgY/jn26JmGdoSw/s1600/almada_negreiros_desenho.JPG"/>
          <p:cNvPicPr/>
          <p:nvPr/>
        </p:nvPicPr>
        <p:blipFill>
          <a:blip r:embed="rId1"/>
          <a:stretch/>
        </p:blipFill>
        <p:spPr>
          <a:xfrm>
            <a:off x="4114800" y="890640"/>
            <a:ext cx="4495680" cy="4718160"/>
          </a:xfrm>
          <a:prstGeom prst="rect">
            <a:avLst/>
          </a:prstGeom>
          <a:ln w="0">
            <a:noFill/>
          </a:ln>
        </p:spPr>
      </p:pic>
      <p:sp>
        <p:nvSpPr>
          <p:cNvPr id="93" name="CaixaDeTexto 14"/>
          <p:cNvSpPr/>
          <p:nvPr/>
        </p:nvSpPr>
        <p:spPr>
          <a:xfrm>
            <a:off x="4876920" y="560556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Calibri"/>
              </a:rPr>
              <a:t>Desenho,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de Almada Negreir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A linha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A estrutura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Marcador de Posição do Número do Diapositivo 8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FAF8-F8E4-47B2-B209-E9A63807C8FD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aixaDeTexto 13"/>
          <p:cNvSpPr/>
          <p:nvPr/>
        </p:nvSpPr>
        <p:spPr>
          <a:xfrm>
            <a:off x="2438280" y="560556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Pirâmide do Louvre (1989), de Ieoh Ming Pei. 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aixaDeTexto 16"/>
          <p:cNvSpPr/>
          <p:nvPr/>
        </p:nvSpPr>
        <p:spPr>
          <a:xfrm>
            <a:off x="457200" y="144792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A estrutura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é o pilar do equilíbri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agoncalves\Ambiente de trabalho\Amadeu Sousa Cardozo\Paris+174_1_1.JPG"/>
          <p:cNvPicPr/>
          <p:nvPr/>
        </p:nvPicPr>
        <p:blipFill>
          <a:blip r:embed="rId1"/>
          <a:srcRect l="0" t="3332" r="0" b="0"/>
          <a:stretch/>
        </p:blipFill>
        <p:spPr>
          <a:xfrm>
            <a:off x="2409840" y="1109520"/>
            <a:ext cx="620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A dimensão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Marcador de Posição do Número do Diapositivo 8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A573-8428-4793-8064-96A01E892E4B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yui_3_3_0_3_13134320731931047" descr="http://farm1.static.flickr.com/24/97788290_ccbe19fdae_z.jpg"/>
          <p:cNvPicPr/>
          <p:nvPr/>
        </p:nvPicPr>
        <p:blipFill>
          <a:blip r:embed="rId1"/>
          <a:stretch/>
        </p:blipFill>
        <p:spPr>
          <a:xfrm>
            <a:off x="2895480" y="1068480"/>
            <a:ext cx="5715000" cy="4522680"/>
          </a:xfrm>
          <a:prstGeom prst="rect">
            <a:avLst/>
          </a:prstGeom>
          <a:ln w="0">
            <a:noFill/>
          </a:ln>
        </p:spPr>
      </p:pic>
      <p:sp>
        <p:nvSpPr>
          <p:cNvPr id="103" name="CaixaDeTexto 16"/>
          <p:cNvSpPr/>
          <p:nvPr/>
        </p:nvSpPr>
        <p:spPr>
          <a:xfrm>
            <a:off x="3352680" y="560556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Calibri"/>
              </a:rPr>
              <a:t>Volante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(1971), de Claes Oldenburg. Kansas city, Museu Nelson- Atki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aixaDeTexto 17"/>
          <p:cNvSpPr/>
          <p:nvPr/>
        </p:nvSpPr>
        <p:spPr>
          <a:xfrm>
            <a:off x="533520" y="1371600"/>
            <a:ext cx="25146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mudança de escala possui um grande valor expressiv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Marcador de Posição do Número do Diapositivo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974C-5837-4E04-BF6F-A310EA0AA80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6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A textura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aixaDeTexto 11"/>
          <p:cNvSpPr/>
          <p:nvPr/>
        </p:nvSpPr>
        <p:spPr>
          <a:xfrm>
            <a:off x="533520" y="125424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As superfícies apresentam texturas que podem </a:t>
            </a:r>
            <a:br>
              <a:rPr sz="2200"/>
            </a:b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ir do liso ao rugos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BLOGGER_PHOTO_ID_5161338478273685810" descr="http://bp0.blogger.com/_st7w7bdNf-M/R6DCAAMO6TI/AAAAAAAAQVo/MiPdTSF2DJE/s1024/129_2921-Leitora.jpg"/>
          <p:cNvPicPr/>
          <p:nvPr/>
        </p:nvPicPr>
        <p:blipFill>
          <a:blip r:embed="rId1"/>
          <a:stretch/>
        </p:blipFill>
        <p:spPr>
          <a:xfrm>
            <a:off x="4137120" y="728640"/>
            <a:ext cx="4473360" cy="4876920"/>
          </a:xfrm>
          <a:prstGeom prst="rect">
            <a:avLst/>
          </a:prstGeom>
          <a:ln w="0">
            <a:noFill/>
          </a:ln>
        </p:spPr>
      </p:pic>
      <p:sp>
        <p:nvSpPr>
          <p:cNvPr id="109" name="CaixaDeTexto 13"/>
          <p:cNvSpPr/>
          <p:nvPr/>
        </p:nvSpPr>
        <p:spPr>
          <a:xfrm>
            <a:off x="4419720" y="560556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Calibri"/>
              </a:rPr>
              <a:t>A Leitora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(1896), de  Edouard Vuillard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National Gallery of Art , de Washingt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266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A cor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Marcador de Posição do Número do Diapositivo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31F4-71B7-459A-B722-28B2E0814622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aixaDeTexto 12"/>
          <p:cNvSpPr/>
          <p:nvPr/>
        </p:nvSpPr>
        <p:spPr>
          <a:xfrm>
            <a:off x="533520" y="117792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A cor é dos primeiros elementos visuais </a:t>
            </a:r>
            <a:br>
              <a:rPr sz="2200"/>
            </a:b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a ser deteta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1.bp.blogspot.com/__d2B9sUpUVU/SrPZSL6HBiI/AAAAAAAARO8/vpdaFsncGKo/s400/matisse.musique.jpg"/>
          <p:cNvPicPr/>
          <p:nvPr/>
        </p:nvPicPr>
        <p:blipFill>
          <a:blip r:embed="rId1"/>
          <a:stretch/>
        </p:blipFill>
        <p:spPr>
          <a:xfrm>
            <a:off x="3987720" y="804960"/>
            <a:ext cx="4605480" cy="4809960"/>
          </a:xfrm>
          <a:prstGeom prst="rect">
            <a:avLst/>
          </a:prstGeom>
          <a:ln w="0">
            <a:noFill/>
          </a:ln>
        </p:spPr>
      </p:pic>
      <p:sp>
        <p:nvSpPr>
          <p:cNvPr id="114" name="CaixaDeTexto 14"/>
          <p:cNvSpPr/>
          <p:nvPr/>
        </p:nvSpPr>
        <p:spPr>
          <a:xfrm>
            <a:off x="4064040" y="560556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Calibri"/>
              </a:rPr>
              <a:t>A Música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(1939), de Henri Matis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A forma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Marcador de Posição do Número do Diapositivo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C563-5123-48DD-967E-602963735738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aixaDeTexto 9"/>
          <p:cNvSpPr/>
          <p:nvPr/>
        </p:nvSpPr>
        <p:spPr>
          <a:xfrm>
            <a:off x="457200" y="1371600"/>
            <a:ext cx="2362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A forma é aquilo que se vê, </a:t>
            </a:r>
            <a:br>
              <a:rPr sz="2200"/>
            </a:b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a aparência </a:t>
            </a:r>
            <a:br>
              <a:rPr sz="2200"/>
            </a:b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de um objeto, </a:t>
            </a:r>
            <a:br>
              <a:rPr sz="2200"/>
            </a:b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com estrutura, dimensão, textura e c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aixaDeTexto 14"/>
          <p:cNvSpPr/>
          <p:nvPr/>
        </p:nvSpPr>
        <p:spPr>
          <a:xfrm>
            <a:off x="2971800" y="5605560"/>
            <a:ext cx="57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tainless Stee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2004-2006), de Anish Kapoor. Millennium Park, Chicago, Illinois, United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Imagem 15" descr="People looking at a large, legume-shaped object with buildings behind it; the object's mirror-like surface warps several building's reflections on its right side."/>
          <p:cNvPicPr/>
          <p:nvPr/>
        </p:nvPicPr>
        <p:blipFill>
          <a:blip r:embed="rId1"/>
          <a:stretch/>
        </p:blipFill>
        <p:spPr>
          <a:xfrm>
            <a:off x="2819520" y="1109520"/>
            <a:ext cx="5790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20:33:40Z</dcterms:created>
  <dc:creator>Ana Nogueira</dc:creator>
  <dc:description/>
  <dc:language>en-US</dc:language>
  <cp:lastModifiedBy>Optimus</cp:lastModifiedBy>
  <dcterms:modified xsi:type="dcterms:W3CDTF">2012-10-07T12:41:22Z</dcterms:modified>
  <cp:revision>164</cp:revision>
  <dc:subject/>
  <dc:title>A figura humana Educação Visual 3ºCiclo</dc:title>
</cp:coreProperties>
</file>